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46B-F139-4074-BEBF-8CA5041F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4FB-51A8-416E-ABEC-B162319A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A75-39E0-4AC3-937B-2C2EEE5B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54B-B48D-4ECE-B188-9630B3F7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7509-E9AD-4EB6-84C1-F517BB7C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698D-3879-4DF7-A4A1-E4777DDF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5CAF-8F72-42AB-8073-0A908D50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C3D2-FB6C-429A-8124-E448542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8BC3-F93B-4A38-9CC0-635FA447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6A62-6876-469E-941C-9FA02DB3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0E9-EDEE-4FBF-AC69-96B328B6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F64-336D-4E58-91DA-BCBA6F2E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1AA9-A8CE-4ADF-AE96-7770DB7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3FEA-6810-4726-BA32-22776012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4A6D-61CB-4C99-BCC7-ED4848CE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131D-9610-49DA-B44F-AFA1BF70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1EF6-8801-47FE-93A1-284B65A6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151-6B31-425A-842C-26BA8FFC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2AD-ADA8-4BBC-9C21-CEFF54E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D4F-96AA-41B4-89C9-E41B9DF5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04E-EFDC-48C5-A6EC-F2767036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2EF-5E27-4518-BD4E-0490E26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1EC-6250-4EDC-B636-DCFCDB6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6D1-0725-4B30-BA60-6EA166B4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DF26-1211-472E-B746-A384A8B767C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6899-A5F7-4338-BABE-A346E7878FF1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geomundo.com.br/nossa_escola_normas_trabalho_escolar.htm#CAPA%23CAP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149720"/>
            <a:ext cx="85341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Geometria Molecular e Interações Químicas Molecular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Tetraédrica   F   (CH</a:t>
            </a:r>
            <a:r>
              <a:rPr b="0" lang="pt-BR" sz="44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)   109,5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62040" y="2786040"/>
            <a:ext cx="3000240" cy="32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619520" y="2913120"/>
            <a:ext cx="28828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us Paul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rêmio Nobel de Química em 1954 e da Paz em 1962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amoso por suas pesquisas sobre estruturas moleculares e pela luta contra as armas nuclea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956120" y="2060640"/>
            <a:ext cx="33051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Conceito de Eletronegativida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letronegatividade é a tendência que o átomo de um determinado elemento apresenta para atrair elétrons, num contexto em que se acha ligado a outro átom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u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ntem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pt-BR" sz="16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ube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pt-BR" sz="16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asil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ó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om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ã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úngar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Met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755640" y="5300640"/>
            <a:ext cx="7273800" cy="432000"/>
          </a:xfrm>
          <a:prstGeom prst="leftArrow">
            <a:avLst>
              <a:gd name="adj1" fmla="val 50000"/>
              <a:gd name="adj2" fmla="val 420937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ráfico da eletronegativ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4" descr="http://1.bp.blogspot.com/_ptRreTrA-Ms/S6KgHhBeihI/AAAAAAAAADA/1RYF5jQsDbU/s400/Tabela+e+a+eletronegatividade.bmp"/>
          <p:cNvPicPr/>
          <p:nvPr/>
        </p:nvPicPr>
        <p:blipFill>
          <a:blip r:embed="rId1"/>
          <a:stretch/>
        </p:blipFill>
        <p:spPr>
          <a:xfrm>
            <a:off x="179280" y="1413000"/>
            <a:ext cx="8569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Valores de Eletronegativ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6204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Ligaçõ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Polares e Apola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Ligação covalente polar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4,0 – 2,1 = 1,9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δ+        δ- </a:t>
            </a:r>
            <a:br>
              <a:rPr sz="1800"/>
            </a:b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 ─ Cl    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*Como o Cloro é mais eletronegativo, atrai para si o pólo com carga positiva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Ligação covalente apolar</a:t>
            </a:r>
            <a:r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2,1 -2,1 = 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─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H      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* Possuem a mesma eletronegatividad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ônica X Ligação Coval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iônica : Doação e recebimento de elétrons.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(metais com não metais),( 1,2e3 com 5,6 e7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Valores de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Arial"/>
              </a:rPr>
              <a:t>∆ acima de 2 indica ligação com caráter iônic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KCl ∆ = 3,0 – 0,8 = 2,2     (IÔNIC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NaCl ∆ = 3,0 – 0,9 = 2,1     (IÔNIC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ônica X Ligação Coval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Covalente: Compartilhamento de pares de elétrons. (Não metai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Valores de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Arial"/>
              </a:rPr>
              <a:t>∆ abaixo de 1,5 indica ligação com caráter predominantemente coval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Cl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3,0 – 3,0 = zero     (COVALENTE </a:t>
            </a:r>
            <a:r>
              <a:rPr b="0" lang="pt-BR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APOLAR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BrCl ∆ = 3,0 – 2,8 = 0,2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ICl  ∆ = 3,0 – 2,5 = 0,5  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HCl ∆ = 3,0 – 2,1 = 0,9 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metria 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É o estudo de como os átomos estão distribuídos espacialmente em uma molécul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ependendo dos átomos que a compõem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As principais classificações são: linear, angular, trigonal plana, piramidal e tetraédri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ara se determinar a geometria de uma molécula, é preciso conhecer a teoria da repulsão dos pares eletrônicos da camada de valên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e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 polaridade de uma molécula é verificada pelo valor do momento de dipolo 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A polaridade de moléculas com mais de dois átomos é expressa por: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 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µ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R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(momento dipolo resultant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       H─H           geometria linear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= zero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F         H ─F          geometria linear 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≠ 0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C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   O═C ═ O      geometria linear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= 0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CN    H ─ C≡N       geometria linear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≠ 0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2040" y="1904760"/>
            <a:ext cx="381456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mônia(N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) 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19160" y="1904760"/>
            <a:ext cx="381492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O  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62040" y="4029120"/>
            <a:ext cx="381456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4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19160" y="4029120"/>
            <a:ext cx="38149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CCl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3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405160" cy="213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100px-Chloroform_displayed"/>
          <p:cNvPicPr/>
          <p:nvPr/>
        </p:nvPicPr>
        <p:blipFill>
          <a:blip r:embed="rId2"/>
          <a:stretch/>
        </p:blipFill>
        <p:spPr>
          <a:xfrm>
            <a:off x="5292720" y="4508640"/>
            <a:ext cx="2016000" cy="1895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1729080" cy="168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4"/>
          <a:stretch/>
        </p:blipFill>
        <p:spPr>
          <a:xfrm>
            <a:off x="5364000" y="2421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Interação ou 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nter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Interação ou 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nter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43444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 que mantêm as moléculas unidas nos três estados (sólido, líquido e gasoso) são as chamadas ligações ou forças ou interações molecula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São três tipos de forç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de Hidrogê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polo permanente ou dipolo-dipolo (D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polo instantâneo  (DI), força de van  der Waals ou força de dispersão de Lond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Estados de agregação de uma substânc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901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de Hidrogêni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ão interações que ocorrem  entre moléculas que apresentem H ligados diretamente a 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F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O 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ou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 N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.      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(EX: N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 – 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O -HF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431928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26622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de Hidrogêni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covalente e de hidrogê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de hidrogênio rompen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29955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Dipolo Dipo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orça de atração entre dipolos, positivos e neg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Ex: HCl  -HI - PCl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180px-Dipole-dipole-interaction-in-HCl-2D"/>
          <p:cNvPicPr/>
          <p:nvPr/>
        </p:nvPicPr>
        <p:blipFill>
          <a:blip r:embed="rId1"/>
          <a:stretch/>
        </p:blipFill>
        <p:spPr>
          <a:xfrm>
            <a:off x="1332000" y="2276640"/>
            <a:ext cx="3168720" cy="757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3241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Dipolo Induzido ou van der Wa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correm em todas as substâncias  apola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Cl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Br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hidrocarbone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692360" y="3684600"/>
            <a:ext cx="3058920" cy="3173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6048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s Intermoleculares e Ponto de Ebuli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448920"/>
            <a:ext cx="70866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VSEPR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(repulsão dos pares de elétrons da camada de valênc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Baseia-se na idéia de que pares eletrônicos da camada de valência de um átomo </a:t>
            </a:r>
            <a:r>
              <a:rPr b="1" lang="pt-BR" sz="2800" spc="-1" strike="noStrike">
                <a:solidFill>
                  <a:srgbClr val="eaeaea"/>
                </a:solidFill>
                <a:latin typeface="Times New Roman"/>
              </a:rPr>
              <a:t>central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, estejam fazendo Ligação química ou não, se comportam como nuvens eletrônicas que se repelem, ficando com a maior distância angular possível uns dos outro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Uma nuvem eletrônica pode ser representada por uma ligação simples, dupla, tripla ou mesmo por um par de elétrons que não estão a fazer ligação químic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s Intermoleculares e Ponto de Ebuli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Quando uma substância á aquecida e passa do estado líquido ou sólido para o estado gasoso ocorre o rompimento de ligação intermolecul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46245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ligação e Ponto de Ebuliçã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e Hidrogênio: HF- 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 - N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ipolo Dipolo: HCl – HBr – H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e Dipolo-instantâneo ou DI: F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Cl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Br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101080" y="1916280"/>
            <a:ext cx="503280" cy="4392360"/>
          </a:xfrm>
          <a:prstGeom prst="upArrow">
            <a:avLst>
              <a:gd name="adj1" fmla="val 50000"/>
              <a:gd name="adj2" fmla="val 218187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nto de Ebulição e Tamanho da Cade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6948360" y="2637000"/>
            <a:ext cx="720720" cy="3528720"/>
          </a:xfrm>
          <a:prstGeom prst="upArrow">
            <a:avLst>
              <a:gd name="adj1" fmla="val 50000"/>
              <a:gd name="adj2" fmla="val 122403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eruzzo, Francisco Miragaia. </a:t>
            </a:r>
            <a:r>
              <a:rPr b="0" lang="pt-BR" sz="2800" spc="-1" strike="noStrike" u="sng">
                <a:solidFill>
                  <a:srgbClr val="eaeaea"/>
                </a:solidFill>
                <a:uFillTx/>
                <a:latin typeface="Times New Roman"/>
              </a:rPr>
              <a:t>Química na abordagem do cotidiano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: volume 2, ensino médio. São Paulo: Moderna, 2003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Google. Disponível em &lt;http://images.google.com.br/images&gt; acesso em 27/06/2009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sponível em&lt;http://educacao.uol.com.br/quimica/&gt;acesso em 27/06/2009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digir um trabalho digitado contend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I. ESTRUTURA OBRIGATÓRIA DE TRABALHO ESCOLA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1. Capa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2. Folha de Rost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3.Apresentaçã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4.Sumári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5.Textos ou Desenvolvimento do Conteúd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7. Conclusão pesso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8. Bibliografia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metria 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55640" y="1725480"/>
            <a:ext cx="7920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ear               l8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C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B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7" descr="Crystal structure of hydrogen (I) bromide"/>
          <p:cNvPicPr/>
          <p:nvPr/>
        </p:nvPicPr>
        <p:blipFill>
          <a:blip r:embed="rId1"/>
          <a:stretch/>
        </p:blipFill>
        <p:spPr>
          <a:xfrm>
            <a:off x="5076720" y="3141720"/>
            <a:ext cx="324036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rystal structure of hydrogen (I) chloride"/>
          <p:cNvPicPr/>
          <p:nvPr/>
        </p:nvPicPr>
        <p:blipFill>
          <a:blip r:embed="rId2"/>
          <a:stretch/>
        </p:blipFill>
        <p:spPr>
          <a:xfrm>
            <a:off x="684360" y="3068640"/>
            <a:ext cx="3404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ear               18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260880" cy="1535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CO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381636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Angular                104,5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4245120" cy="315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898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Trigonal Plana  D  BF</a:t>
            </a:r>
            <a:r>
              <a:rPr b="0" lang="pt-BR" sz="4400" spc="-1" strike="noStrike" baseline="-25000">
                <a:solidFill>
                  <a:srgbClr val="ffffcc"/>
                </a:solidFill>
                <a:latin typeface="Times New Roman"/>
              </a:rPr>
              <a:t>3     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2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619520" y="2455920"/>
            <a:ext cx="3306960" cy="356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662040" y="2455920"/>
            <a:ext cx="33033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irâmide Trigonal E    107,3º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62040" y="1905120"/>
            <a:ext cx="3424320" cy="369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H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10" descr="Crystal structure of nitrogen (III) fluoride"/>
          <p:cNvPicPr/>
          <p:nvPr/>
        </p:nvPicPr>
        <p:blipFill>
          <a:blip r:embed="rId2"/>
          <a:stretch/>
        </p:blipFill>
        <p:spPr>
          <a:xfrm>
            <a:off x="5076720" y="2565360"/>
            <a:ext cx="3222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4:07:23Z</dcterms:created>
  <dc:creator>XP</dc:creator>
  <dc:description/>
  <dc:language>en-US</dc:language>
  <cp:lastModifiedBy>Moisés</cp:lastModifiedBy>
  <dcterms:modified xsi:type="dcterms:W3CDTF">2012-08-03T04:51:18Z</dcterms:modified>
  <cp:revision>44</cp:revision>
  <dc:subject/>
  <dc:title>Geometria Molecular e Interações Químicas Moleculares</dc:title>
</cp:coreProperties>
</file>